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BEE-BF9B-4845-A046-FD406F80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CE9-5432-4092-A1C5-B3C48349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461-EF97-40DE-A9DC-FA5B6652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308-69FF-4E13-B028-BC5E7C9F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738-D98A-49CE-A8CA-E35B21C1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7F7-B18C-4EE0-A177-8E83F1D7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177-1CB2-49CB-9DFC-A4D28F36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44F-E4E7-49B5-AD12-E4043490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2C8-AB8E-4554-B953-F8AD3E46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CEE-C361-462B-B603-2AA667AE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1AB-644E-485D-AAA6-D6CA4403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807-C3D1-410F-8DF9-796F39BE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E61A-8ADD-45CC-8479-25103806A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05400" y="3032280"/>
            <a:ext cx="3812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05400" y="2727360"/>
            <a:ext cx="3812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05400" y="2879640"/>
            <a:ext cx="38124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9920" y="2000160"/>
            <a:ext cx="125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cG (accotement gauch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    (chaussé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cD (accotement droi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19600" y="2270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73440" y="2479680"/>
            <a:ext cx="140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: bon;  2 moyen;  3 mauva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153120" y="2571480"/>
            <a:ext cx="247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153120" y="3257280"/>
            <a:ext cx="336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45440" y="3164040"/>
            <a:ext cx="131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Indice Is (VIZIR) (de 1 à 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69360" y="2658960"/>
            <a:ext cx="5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vité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69360" y="2811600"/>
            <a:ext cx="5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vité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69360" y="2963880"/>
            <a:ext cx="5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vité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24520" y="187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34000" y="17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74160" y="1631880"/>
            <a:ext cx="121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 ( intersection à droi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 (crois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 (intersection à gauch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I" descr=""/>
          <p:cNvPicPr/>
          <p:nvPr/>
        </p:nvPicPr>
        <p:blipFill>
          <a:blip r:embed="rId2"/>
          <a:stretch/>
        </p:blipFill>
        <p:spPr>
          <a:xfrm>
            <a:off x="2819520" y="1117440"/>
            <a:ext cx="3343320" cy="496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2057400" y="1879560"/>
            <a:ext cx="144792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2320" y="1727280"/>
            <a:ext cx="125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 (rectiligne); S (sinueu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00200" y="2076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1760" y="1955880"/>
            <a:ext cx="133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 (plaine); M (montagneu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09320" y="218448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5680" y="2268360"/>
            <a:ext cx="185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 (remblai); D (déblai); M (profil mix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86440" y="39322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(bon); 1 (moyen); 2 (mauva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38988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81560" y="533520"/>
            <a:ext cx="39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égende des schémas itinéraires pour routes revêt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1920" y="2438280"/>
            <a:ext cx="129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N (niveau terrain nature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59840" y="2141640"/>
            <a:ext cx="71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rgeurs (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2104920"/>
            <a:ext cx="76320" cy="304920"/>
          </a:xfrm>
          <a:custGeom>
            <a:avLst/>
            <a:gdLst>
              <a:gd name="textAreaLeft" fmla="*/ 48960 w 76320"/>
              <a:gd name="textAreaRight" fmla="*/ 76320 w 763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2:55:34Z</dcterms:created>
  <dc:creator>Seri_0185</dc:creator>
  <dc:description/>
  <dc:language>en-US</dc:language>
  <cp:lastModifiedBy>Seri_0185</cp:lastModifiedBy>
  <cp:lastPrinted>2001-03-15T12:31:21Z</cp:lastPrinted>
  <dcterms:modified xsi:type="dcterms:W3CDTF">2001-03-15T12:35:50Z</dcterms:modified>
  <cp:revision>11</cp:revision>
  <dc:subject/>
  <dc:title>Aucun titre de diapositive</dc:title>
</cp:coreProperties>
</file>