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AFED-6CA6-4514-B110-82BE19182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B9C8-1924-4E1F-B20A-CCBD76BA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355A-A956-486B-900B-A0A97220F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CECB-74F1-4B7E-9658-F3FFB170E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43D1-CBDE-4F57-9B35-FB377C48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CA36-3C59-4779-A53D-8B51E5E0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15FA-7CDD-4D63-9FBA-1E205328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1004-FACA-494A-AF5B-514E9D26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0981-986C-4FD6-82BF-6B626250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913F-4918-4C36-8094-36A15D1D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C306-7285-4638-B715-F7018D10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BAF0-59E2-4EE1-BB65-BC0B4249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E038-4A1D-4F7D-8C36-7B06504C1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1" descr=""/>
          <p:cNvPicPr/>
          <p:nvPr/>
        </p:nvPicPr>
        <p:blipFill>
          <a:blip r:embed="rId1"/>
          <a:stretch/>
        </p:blipFill>
        <p:spPr>
          <a:xfrm>
            <a:off x="2666880" y="990720"/>
            <a:ext cx="3382920" cy="4800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248520" y="2514600"/>
            <a:ext cx="285480" cy="745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5880" y="3886200"/>
            <a:ext cx="3049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371280" y="3765600"/>
            <a:ext cx="213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(peu sinueuse); 2 (sinueuse); 3 (très sinueus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48520" y="2666880"/>
            <a:ext cx="285480" cy="74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819520"/>
            <a:ext cx="285480" cy="745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36160" y="2433600"/>
            <a:ext cx="56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ravité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36160" y="2593800"/>
            <a:ext cx="56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ravité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536160" y="2741760"/>
            <a:ext cx="56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ravité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29280" y="2286000"/>
            <a:ext cx="3049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291720" y="2070000"/>
            <a:ext cx="240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Implantation des buses, dallots ou ponts; pou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es ponts la longueur en mètres est indiquée au dess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u symbol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63920" y="392040"/>
            <a:ext cx="454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égende des schémas itinéraires pour les routes non revêt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43680" y="1981080"/>
            <a:ext cx="3045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89920" y="1836720"/>
            <a:ext cx="2539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/ largeur de l'emprise en m / largeur de la partie circulée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3960" y="4199040"/>
            <a:ext cx="250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les autres codifications sont identiques à celles porté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ns les schémas itinéraires des routes revêtu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13:00:19Z</dcterms:created>
  <dc:creator>Seri_0185</dc:creator>
  <dc:description/>
  <dc:language>en-US</dc:language>
  <cp:lastModifiedBy>Seri_0185</cp:lastModifiedBy>
  <cp:lastPrinted>2001-03-15T14:23:38Z</cp:lastPrinted>
  <dcterms:modified xsi:type="dcterms:W3CDTF">2001-03-15T14:32:31Z</dcterms:modified>
  <cp:revision>5</cp:revision>
  <dc:subject/>
  <dc:title>Aucun titre de diapositive</dc:title>
</cp:coreProperties>
</file>